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9A3D-E850-4FCF-99B0-1657C82E7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F5F4-01C2-4F45-9318-079087FE1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8A7-65DA-42CB-92B2-B7C358EBC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4C11-F92E-4682-A130-810227864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B865-1CC9-4420-9090-76DBE4287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4FB36-5613-46C3-B403-097A8B5A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B15A-E0A6-4D6D-AAEC-3F2F2FB8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C70A-599E-4A80-BD0D-C367FBFE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4B658-32A0-4EF0-BB3A-A43491F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DB6E8-1972-4867-B77A-6127F0FA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ADA-9346-4621-8707-A4F12D67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A7FB-8F5D-4B05-9938-0C48D3F54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02755-7F46-4923-B138-28C63485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A519-96FB-4C3B-96FA-491A4C3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B756-ABCB-40AE-AC6E-A824D64AB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D2E6-3825-4900-8205-975A5713A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0D6D-AB20-4B1D-B850-4CF8D0B0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632C-FDEE-471F-B6E0-23E0D2631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574-5892-4BFE-AD65-934D9D4A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80D5-572F-4AD7-80EB-8B877997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0FA1-78AD-49D1-9835-A45D05A0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6EF-BE83-4B6D-93CB-1A357918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8E2F-5B6C-4D80-B7BC-9A8BB483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E624-BDCC-461C-AE90-AAB3F432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9A9A-F908-478F-BA7C-03209825EC6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591A-F420-4B84-AF2B-B3AFFB23781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JORD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apter 1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905120" y="3124080"/>
            <a:ext cx="579096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19320" y="533520"/>
            <a:ext cx="6983280" cy="52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Land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etr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286000" y="3581280"/>
            <a:ext cx="3886200" cy="291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533520" y="2362320"/>
            <a:ext cx="1782720" cy="26748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5511960" y="0"/>
            <a:ext cx="3632040" cy="4610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400800" y="57150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00800" y="54100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rdan R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Economy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Manufacturing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qaba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3915000" cy="2457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3609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People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Amman – Capita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4.7 Muslim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 Millio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Palestinians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495680" y="1828800"/>
            <a:ext cx="4470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Government/History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Ottoma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1946 Independence from British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onstitutional Monarchy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ing Hussein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King Abdullah II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800600" y="3809880"/>
            <a:ext cx="377496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7:40:36Z</dcterms:created>
  <dc:creator>Joe Dirt</dc:creator>
  <dc:description/>
  <dc:language>en-US</dc:language>
  <cp:lastModifiedBy>Joe Dirt</cp:lastModifiedBy>
  <dcterms:modified xsi:type="dcterms:W3CDTF">2008-01-07T20:49:07Z</dcterms:modified>
  <cp:revision>3</cp:revision>
  <dc:subject/>
  <dc:title>JORDAN     Chapter 17</dc:title>
</cp:coreProperties>
</file>